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C64-E775-4583-AC1F-8A7BD1BD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1A1-EAAD-4298-8751-D66CB1EF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903-AA15-4F37-9513-660B5FEB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934-7CCE-4DC8-B448-789E3256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5E5-108C-4B7B-B5F2-632CC838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3FA-BF90-4768-979B-A9029147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9F8-11F9-444D-9FBC-964AFBC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40-303C-4AD4-8770-92052FCF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231-D7A3-4D0F-827B-F67DA52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3CB-6E52-4647-A130-3318CCC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D65-B087-4DD4-8925-1D884284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859-792A-4BDD-848B-4E2DD25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24FA-FCB3-424D-9335-6DC3BC8A7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04920"/>
            <a:ext cx="784872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лово възпитание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к да отговаряме на въпросите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520" y="32767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говорете ясн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говорете открит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жете истинат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обяснявайте повече, отколкото въпросът изискв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JE00039" descr=""/>
          <p:cNvPicPr/>
          <p:nvPr/>
        </p:nvPicPr>
        <p:blipFill>
          <a:blip r:embed="rId1"/>
          <a:stretch/>
        </p:blipFill>
        <p:spPr>
          <a:xfrm>
            <a:off x="0" y="3857760"/>
            <a:ext cx="2449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говаряйте на детето със спокоен и сигурен глас. Понякога за него е по-важно не какво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звате, а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к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го казвате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PU00012" descr=""/>
          <p:cNvPicPr/>
          <p:nvPr/>
        </p:nvPicPr>
        <p:blipFill>
          <a:blip r:embed="rId1"/>
          <a:stretch/>
        </p:blipFill>
        <p:spPr>
          <a:xfrm>
            <a:off x="5176800" y="3701880"/>
            <a:ext cx="39672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ецата, които не задават въпроси относно пола се нуждаят също от информация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SF50125" descr=""/>
          <p:cNvPicPr/>
          <p:nvPr/>
        </p:nvPicPr>
        <p:blipFill>
          <a:blip r:embed="rId1"/>
          <a:stretch/>
        </p:blipFill>
        <p:spPr>
          <a:xfrm>
            <a:off x="6629400" y="3567240"/>
            <a:ext cx="22035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предпазим децата си от неподходящо поведение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бурната си реакция можем да нараним дете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яко дете трябва да има свое собствено легл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насърчавайте преспиване на децата си заедно с други дец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JE00205" descr=""/>
          <p:cNvPicPr/>
          <p:nvPr/>
        </p:nvPicPr>
        <p:blipFill>
          <a:blip r:embed="rId1"/>
          <a:stretch/>
        </p:blipFill>
        <p:spPr>
          <a:xfrm>
            <a:off x="6858000" y="4448160"/>
            <a:ext cx="228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 да с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тнасяме към мастурбацията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IW0022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19382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962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реагираме, ако забележим, че детето ни се интересува от порнография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SE00028" descr=""/>
          <p:cNvPicPr/>
          <p:nvPr/>
        </p:nvPicPr>
        <p:blipFill>
          <a:blip r:embed="rId1"/>
          <a:stretch/>
        </p:blipFill>
        <p:spPr>
          <a:xfrm>
            <a:off x="3048120" y="838080"/>
            <a:ext cx="30747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8191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ецата, които получават правилно полово възпитание, рядко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е интересуват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т порнография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SF50153" descr=""/>
          <p:cNvPicPr/>
          <p:nvPr/>
        </p:nvPicPr>
        <p:blipFill>
          <a:blip r:embed="rId1"/>
          <a:stretch/>
        </p:blipFill>
        <p:spPr>
          <a:xfrm>
            <a:off x="5562720" y="3352680"/>
            <a:ext cx="3108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28191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яснете на детето Божията цел със създаване на двата пола и му помогнете да разбере, че в покоряването на Божията воля относно пола има благословения.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JE50100" descr=""/>
          <p:cNvPicPr/>
          <p:nvPr/>
        </p:nvPicPr>
        <p:blipFill>
          <a:blip r:embed="rId1"/>
          <a:stretch/>
        </p:blipFill>
        <p:spPr>
          <a:xfrm>
            <a:off x="7370640" y="3989520"/>
            <a:ext cx="17733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Въпросите относно пола се появяват неизбежно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JX50049" descr=""/>
          <p:cNvPicPr/>
          <p:nvPr/>
        </p:nvPicPr>
        <p:blipFill>
          <a:blip r:embed="rId1"/>
          <a:stretch/>
        </p:blipFill>
        <p:spPr>
          <a:xfrm>
            <a:off x="6173640" y="3956040"/>
            <a:ext cx="29703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9982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одителите често се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увстват неудобно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а говорят за пол.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JE00173" descr=""/>
          <p:cNvPicPr/>
          <p:nvPr/>
        </p:nvPicPr>
        <p:blipFill>
          <a:blip r:embed="rId1"/>
          <a:stretch/>
        </p:blipFill>
        <p:spPr>
          <a:xfrm>
            <a:off x="7115040" y="4268880"/>
            <a:ext cx="20289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123720"/>
            <a:ext cx="11125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Родителите чест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е знаят какво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да кажат.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IY00302" descr=""/>
          <p:cNvPicPr/>
          <p:nvPr/>
        </p:nvPicPr>
        <p:blipFill>
          <a:blip r:embed="rId1"/>
          <a:stretch/>
        </p:blipFill>
        <p:spPr>
          <a:xfrm>
            <a:off x="7013520" y="3435480"/>
            <a:ext cx="2130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одителите-християни могат да отговорят на детските въпроси относно пол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светлината н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ристиянск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рал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TT50193" descr=""/>
          <p:cNvPicPr/>
          <p:nvPr/>
        </p:nvPicPr>
        <p:blipFill>
          <a:blip r:embed="rId1"/>
          <a:stretch/>
        </p:blipFill>
        <p:spPr>
          <a:xfrm>
            <a:off x="6611760" y="3475080"/>
            <a:ext cx="25322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гато поучавате децата си относно пола, насочете вниманието им върху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3200" y="3809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лът като анатом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лът като морална ценнос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JE00272" descr=""/>
          <p:cNvPicPr/>
          <p:nvPr/>
        </p:nvPicPr>
        <p:blipFill>
          <a:blip r:embed="rId1"/>
          <a:stretch/>
        </p:blipFill>
        <p:spPr>
          <a:xfrm>
            <a:off x="0" y="4194000"/>
            <a:ext cx="2925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и на половото възпитание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то може да бъде научено, че е нормално да дава и да получава любов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учете го да цени своята полова принадлежност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учете го да уважава собственото си тял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JU50030" descr=""/>
          <p:cNvPicPr/>
          <p:nvPr/>
        </p:nvPicPr>
        <p:blipFill>
          <a:blip r:embed="rId1"/>
          <a:stretch/>
        </p:blipFill>
        <p:spPr>
          <a:xfrm>
            <a:off x="7516800" y="2554200"/>
            <a:ext cx="16272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10287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и на половото възпитание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3124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се научи детето да възприема промените в своето тяло и тези в тялото на другия пол като нормални за израстване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 знае как започва животът и да го оценяв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JV00112" descr=""/>
          <p:cNvPicPr/>
          <p:nvPr/>
        </p:nvPicPr>
        <p:blipFill>
          <a:blip r:embed="rId1"/>
          <a:stretch/>
        </p:blipFill>
        <p:spPr>
          <a:xfrm>
            <a:off x="7197840" y="4029120"/>
            <a:ext cx="1946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к да се отнасяме към въпросите относно пола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тествено за детето е да проявява любопитств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градете у детето чувство за срам, за това кое е редно и кое- нередн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JU50661" descr=""/>
          <p:cNvPicPr/>
          <p:nvPr/>
        </p:nvPicPr>
        <p:blipFill>
          <a:blip r:embed="rId1"/>
          <a:stretch/>
        </p:blipFill>
        <p:spPr>
          <a:xfrm>
            <a:off x="7443720" y="3713040"/>
            <a:ext cx="1700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03:01:00Z</dcterms:created>
  <dc:creator>Pacific Health</dc:creator>
  <dc:description/>
  <dc:language>en-US</dc:language>
  <cp:lastModifiedBy>Pacific Health</cp:lastModifiedBy>
  <dcterms:modified xsi:type="dcterms:W3CDTF">1998-12-08T10:29:44Z</dcterms:modified>
  <cp:revision>6</cp:revision>
  <dc:subject/>
  <dc:title>No Slide Title</dc:title>
</cp:coreProperties>
</file>